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.png" ContentType="image/png"/>
  <Override PartName="/ppt/media/image17.jpeg" ContentType="image/jpeg"/>
  <Override PartName="/ppt/media/image3.png" ContentType="image/png"/>
  <Override PartName="/ppt/media/image1.gif" ContentType="image/gif"/>
  <Override PartName="/ppt/media/image11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3.png" ContentType="image/png"/>
  <Override PartName="/ppt/media/image36.jpeg" ContentType="image/jpeg"/>
  <Override PartName="/ppt/media/image9.jpeg" ContentType="image/jpeg"/>
  <Override PartName="/ppt/media/image56.png" ContentType="image/png"/>
  <Override PartName="/ppt/media/image57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30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566-A867-4E5F-8559-BA89A379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DE8-88E1-4364-8497-8D586FA3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7CE-AD11-4B68-AAF7-4EE8F06A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64C-3642-4093-9CBF-AEDEE84E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0B29-0405-40A8-8E66-7AC48848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02BE-41DB-4623-9CD2-18797DF9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7259-E81C-49B0-B6C5-DA802872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DC13-052F-49F7-B2AB-19EB35E5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62C9-9CD6-4C2B-A629-E97A397B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BAFF-7961-4FE0-901D-F8B943D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74BA-764C-41A9-8C09-FF2CF4CE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EAE-4EE7-4978-8F60-713C3F9F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BB85-3A16-4AB6-BB7E-2B405E33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96A2-D227-4285-8CD2-89E8BFD9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63F8-DAB0-4DF2-AA28-8E652EFE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F05F-1EA5-4B68-859E-83117384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90B8-7B6C-4B08-9B13-DE3C9BC2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694-16A3-47D5-8BE8-741F36F8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C30-211B-4A3C-9B12-4E706481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085-EDF3-443B-A6D4-E5842422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0E6-655F-4D39-91F3-52D30519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9BD-1EA5-49D6-83F3-02033153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19F-0710-49DC-8D38-EDBF6A80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6D6-F951-4EEC-9007-5E41A5D6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ffffff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E61A-FE18-44AA-8653-6A99D09E52FD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235160" indent="-285840">
              <a:spcBef>
                <a:spcPts val="64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2" marL="165420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3" marL="207324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4" marL="249228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5" marL="249228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6" marL="249228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" name="gif379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第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9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章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SQL Server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数据转换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" name="gif23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03280"/>
          </a:xfrm>
          <a:prstGeom prst="rect">
            <a:avLst/>
          </a:prstGeom>
          <a:ln w="0">
            <a:noFill/>
          </a:ln>
        </p:spPr>
      </p:pic>
      <p:sp>
        <p:nvSpPr>
          <p:cNvPr id="17" name="">
            <a:hlinkClick r:id="" action="ppaction://hlinkshowjump?jump=previousslide"/>
          </p:cNvPr>
          <p:cNvSpPr/>
          <p:nvPr/>
        </p:nvSpPr>
        <p:spPr>
          <a:xfrm>
            <a:off x="8001000" y="4572000"/>
            <a:ext cx="1143000" cy="533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nextslide"/>
          </p:cNvPr>
          <p:cNvSpPr/>
          <p:nvPr/>
        </p:nvSpPr>
        <p:spPr>
          <a:xfrm>
            <a:off x="7696080" y="5334120"/>
            <a:ext cx="1143000" cy="533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">
            <a:hlinkClick r:id="" action="ppaction://hlinkshowjump?jump=firstslide"/>
          </p:cNvPr>
          <p:cNvSpPr/>
          <p:nvPr/>
        </p:nvSpPr>
        <p:spPr>
          <a:xfrm>
            <a:off x="6248520" y="5791320"/>
            <a:ext cx="1676160" cy="5331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返回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7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ffffff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949D-F155-4B99-8518-7FCBEF684170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58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" Target="slide58.xml"/><Relationship Id="rId7" Type="http://schemas.openxmlformats.org/officeDocument/2006/relationships/hyperlink" Target="file:///&#30446;&#24405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31532;8&#31456;%20%20%20%20SQL%20Server&#25968;&#25454;&#22797;&#21046;.ppt" TargetMode="Externa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9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SQL Server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数据转换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2438280"/>
            <a:ext cx="5715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9.1 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数据的导入和导出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9.2 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使用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DTS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设计器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>
            <a:hlinkClick r:id="rId7"/>
          </p:cNvPr>
          <p:cNvSpPr/>
          <p:nvPr/>
        </p:nvSpPr>
        <p:spPr>
          <a:xfrm>
            <a:off x="6248520" y="5791320"/>
            <a:ext cx="1676160" cy="5331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返回目录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>
            <a:hlinkClick r:id="rId9"/>
          </p:cNvPr>
          <p:cNvSpPr/>
          <p:nvPr/>
        </p:nvSpPr>
        <p:spPr>
          <a:xfrm>
            <a:off x="8001000" y="4572000"/>
            <a:ext cx="1143000" cy="5335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上一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145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8.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391360" cy="3903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43560" y="525780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创建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4320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8.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600200"/>
            <a:ext cx="6400800" cy="2900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87840" y="5029200"/>
            <a:ext cx="34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定文件数据库路径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954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8.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523880"/>
            <a:ext cx="6400800" cy="3327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480" y="518148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输入数据库路径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526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8.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143000"/>
            <a:ext cx="5224320" cy="3747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57040" y="5105520"/>
            <a:ext cx="32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定源数据库信息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8604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8.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914400"/>
            <a:ext cx="5867640" cy="4083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48120" y="5181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标数据库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8.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017720"/>
            <a:ext cx="5334120" cy="3830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17240" y="510552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表复制或查询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8.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066680"/>
            <a:ext cx="5448240" cy="3911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920" y="51814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源表和视图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08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8.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990720"/>
            <a:ext cx="4881600" cy="4189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38000" y="5334120"/>
            <a:ext cx="35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13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列映射和转换对话框—列映射页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4328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8.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066680"/>
            <a:ext cx="4800600" cy="4021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14040" y="5257800"/>
            <a:ext cx="34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14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列映射和转换对话框—转换页框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8.1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066680"/>
            <a:ext cx="5219640" cy="374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110120" y="5181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、调度和复制包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9.1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数据的导入和导出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2590560"/>
            <a:ext cx="5486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" action="ppaction://hlinksldjump"/>
              </a:rPr>
              <a:t>9.1.1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2" action="ppaction://hlinksldjump"/>
              </a:rPr>
              <a:t>数据的导入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 action="ppaction://hlinksldjump"/>
              </a:rPr>
              <a:t>9.1.2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4" action="ppaction://hlinksldjump"/>
              </a:rPr>
              <a:t>数据的导出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813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8.1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143000"/>
            <a:ext cx="5295960" cy="3492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37320" y="5029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8136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8.1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143000"/>
            <a:ext cx="5524560" cy="3746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20920" y="51814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入数据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导入文本文件数据库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１）启动企业管理器，展开选定的服务器，用右键单击该服务器图标，从快捷菜单中选择所有任务（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all task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，然后再从子菜单中选择导入数据，启动数据导入向导工具，就会出现欢迎使用向导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２）单击“下一步”按钮，则出现选择数据源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8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３）在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8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中单击“下一步”按钮，则出现选择文件格式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0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４）单击“下一步”按钮，则出现指定列分隔符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1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５）单击“下一步”按钮，就会出现选择目的数据库类型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６）单击“确定”按钮，则出现保存、调度和复制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７）单击“下一步”按钮，则出现确认导入数据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８）如果在向导中设定了立即执行，在向导结束后，则会出现数据导入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该对话框中执行向导中定义的复制操作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7813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8.2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295280"/>
            <a:ext cx="5410080" cy="356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51800" y="510552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6002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8.2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447920"/>
            <a:ext cx="6629400" cy="3379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24240" y="51055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8.2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447920"/>
            <a:ext cx="4915080" cy="354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55680" y="52578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格式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8.2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077840"/>
            <a:ext cx="5562720" cy="3995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9196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列分隔符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8.2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069920"/>
            <a:ext cx="5334120" cy="3840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121200" y="5181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的数据库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604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8.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066680"/>
            <a:ext cx="4681440" cy="3732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652480" y="51814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3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源表和视图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9.1.1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数据的导入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导入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FoxPro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数据库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利用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导入、导出向导导入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FoxPro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数据库的步骤如下：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１）打开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Enterprise Manag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企业管理器），展开选定的服务器，启动数据导入向导工具，就会出现欢迎使用向导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２）单击“下一步”按钮，则出现选择数据源对话框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３）单击“下一步”按钮，则出现选择导入的目标数据库类型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0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00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8.2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066680"/>
            <a:ext cx="4953240" cy="4152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04520" y="545148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列映射和转换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002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8.2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219320"/>
            <a:ext cx="5000760" cy="3606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650760" y="518148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、调度和复制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480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8.2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295280"/>
            <a:ext cx="5205240" cy="3435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4480" y="51055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入数据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9096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8.3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914400"/>
            <a:ext cx="5334120" cy="4013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308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进行数据导入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9.1.2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数据的导出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导出数据库至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A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打开企业管理器，展开指定的服务器，用右键单击该服务器图标，从弹出的快捷菜单中选择所有任务（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all task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）选项，然后再从子菜单中选择导出数据选项，则会出现数据转换服务导入和导出向导对话框 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它显示了该导出向导所能完成的操作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２）单击“下一步”按钮，就会出现选择导出数据的数据源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9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３）单击“下一步”按钮，则会出现选择目的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0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４）选定目标数据库后，单击“下一步”按钮，则出现指定表复制或查询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５）单击“下一步”按钮，则出现选择源表和视图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3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６）单击“下一步”按钮，则会出现保存、调度和复制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７）单击“下一步”按钮，就会出现导出向导结束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8136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8.3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19320"/>
            <a:ext cx="567720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10680" y="5257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28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数据转换服务导出向导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8.3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5410440" cy="3895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921760" y="52578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8.3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219320"/>
            <a:ext cx="5143680" cy="3693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892600" y="52578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的数据库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8128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8.3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600200"/>
            <a:ext cx="6400800" cy="3305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81240" y="533412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４）单击“下一步”按钮，就会出现选择源表和视图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５）在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中单击“下一步”按钮，则会出现保存、调度和复制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６）单击“下一步”按钮，则出现保存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７）单击“下一步”按钮，则出现向导确认完成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9072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4" name="8.3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333760" cy="3994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658600" y="53341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表复制或查询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8604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7" name="8.3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5595840" cy="4015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14040" y="537516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3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源表和视图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82420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8.3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066680"/>
            <a:ext cx="5257800" cy="3983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7280" y="53341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列映射和转换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243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8.3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219320"/>
            <a:ext cx="6172200" cy="3495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306600" y="51814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查看数据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144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8.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066680"/>
            <a:ext cx="5943600" cy="388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748680" y="525780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36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保存、调度和复制包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004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9" name="8.4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790960" cy="3908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143160" y="525780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出数据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导出数据库至文本文件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启动企业管理器，展开选定的服务器，用右键单击该服务器图标，从弹出的快捷菜单中选择所有任务选项，然后再从子菜单中选择导出数据选项，就会出现欢迎使用数据转换服务导入和导出向导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２）单击“下一步”按钮，则会出现选择数据源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３）单击“下一步”按钮，就会出现选择目的数据库类型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0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４）单击“下一步”按钮，就会出现指定表复制或查询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2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01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５）单击“下一步”按钮，则出现选择目的文件格式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3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６）单击“下一步”按钮，就会出现保存、调度和复制包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5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其中可以设定是否创建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，何时执行复制操作，以及将该包以何种方式存放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７）单击“下一步”按钮，则出现数据转换服务的导出向导结束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6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其中显示了在该向导中进行的设置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８）如果在该向导中选择了立即执行，在向导结束后，则会出现执行数据导出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7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该对话框显示了复制的执行结果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8.4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90720"/>
            <a:ext cx="5676840" cy="4076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137400" y="533412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9145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8.4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990720"/>
            <a:ext cx="5867280" cy="4062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7331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定高级连接属性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8.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19320"/>
            <a:ext cx="4952880" cy="3565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10720" y="5105520"/>
            <a:ext cx="35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欢迎使用数据导入向导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8604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1" name="8.4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143000"/>
            <a:ext cx="5672160" cy="3735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119760" y="51055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的数据库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6812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4" name="8.4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1447920"/>
            <a:ext cx="7148520" cy="3403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43360" y="52578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860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7" name="8.4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90720"/>
            <a:ext cx="6019560" cy="3949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193560" y="518148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表复制或查询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776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0" name="8.4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6019920" cy="3927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144600" y="5334120"/>
            <a:ext cx="28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43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选择目的文件格式对话框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8004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8.4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14400"/>
            <a:ext cx="5486400" cy="4394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819880" y="55627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列映射和转换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78136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8.4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90720"/>
            <a:ext cx="5524560" cy="3936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650760" y="533412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、调度和复制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9" name="8.4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990720"/>
            <a:ext cx="5638680" cy="4049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041280" y="54100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出数据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9433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2" name="8.5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362560" cy="3951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73816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执行数据导出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9.2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DTS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设计器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和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导入、导出向导一样，都是在同构或者异构数据源之间进行数据导入、导出和转换。但是，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是一个图形工具，它使创建和编辑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的工作变得更加简单和轻松，而且它提供了比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向导更为强大的功能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利用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创建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，首先要添加连接，每个包包含目标连接和源连接，在连接中指明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OLE DB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提供者数据源，接着定义源连接和目标连接间的数据转换，然后要定义包将执行的任务，也可以自定义任务，最后决定是否运行包或者将其存储以备后用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添加连接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打开企业管理器后，登录到指定的服务器，用右键单击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ata Transformation Service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文件夹，从弹出的快捷菜单中选择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New Package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项，就会出现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 Package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对话框。如下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670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9-4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4572000" cy="2440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572080" y="3916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8.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333760" cy="3840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38480" y="525780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２）在主菜单中单击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Connection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菜单项，从下拉菜单中选择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Microsoft OLE DB Provider for 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选项，则打开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Connection Propertie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对话框，如右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49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0024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3" name="9-49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3657600" cy="32590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114800" y="5029200"/>
            <a:ext cx="36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49   Connection Properties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定义和设置数据转换任务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数据转换任务是将数据从源连接传递到目标连接的主要机制。每个数据转换任务都要引用一个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 Data Dump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OLE DB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提供者。源连接和目标连接创建完成后，应创建数据转换。其方法是选中源连接后，按住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&lt;Shift&gt;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键不放，再选择目标连接，两者都选中后右击目标连接，从弹出的快捷菜单中选择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Transform Data Task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，则在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设计器工作区会出现从源连接到目标连接的箭头，其用于表明数据的流向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在完成数据转换属性设置之后，可以向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DTS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包中添加自定义任务，其操作步骤为： 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从左边的任务栏中，将要添加的任务类型用左键拖到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工作区，然后用右键单击进行属性设置，其属性对话框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6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２）添加完自定义任务之后，则应在转换数据任务和自定义任务之间定义优先级条件。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7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３）在创建完包之后，可以单击工具栏上的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Run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按钮来运行包，在包执行的过程中，可以通过暂停和停止按钮来对执行过程进行控制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12912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0" name="9-56b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3882960" cy="419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501640" y="5410080"/>
            <a:ext cx="37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56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执行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SQL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脚本任务属性设置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75760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3" name="9-57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095880" cy="40798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808360" y="54100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定义优先级条件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93832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6" name="9-58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4986360" cy="3794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61600" y="52578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运行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9" name="0439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2614320" cy="3810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8800" y="2286000"/>
            <a:ext cx="1460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本演示文稿到此结束，谢谢您 的光临，再见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endshow"/>
          </p:cNvPr>
          <p:cNvSpPr/>
          <p:nvPr/>
        </p:nvSpPr>
        <p:spPr>
          <a:xfrm>
            <a:off x="7696080" y="5334120"/>
            <a:ext cx="1143000" cy="53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结  束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8.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106640"/>
            <a:ext cx="5334120" cy="3828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41800" y="5181480"/>
            <a:ext cx="42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定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FoxPro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数据库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8.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19320"/>
            <a:ext cx="5257800" cy="3795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32640" y="518148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类型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0988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8.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243400" cy="3800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16200" y="5181480"/>
            <a:ext cx="33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驱动程序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2:29:16Z</dcterms:created>
  <dc:creator>li</dc:creator>
  <dc:description/>
  <dc:language>en-US</dc:language>
  <cp:lastModifiedBy>lcb</cp:lastModifiedBy>
  <dcterms:modified xsi:type="dcterms:W3CDTF">2001-08-19T14:58:50Z</dcterms:modified>
  <cp:revision>44</cp:revision>
  <dc:subject/>
  <dc:title>第9章   SQL Server 数据转换 </dc:title>
</cp:coreProperties>
</file>